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2DB56-FAC3-421A-BFC6-12CEFAC73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C3BFC-0181-4C39-ACD4-9A0530A62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5C3BF-AE91-48E5-82B8-CF8E92B13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BD993-6B5E-436E-9F2D-2CCE8A59D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986F-8368-4452-BDC5-71F2F628E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3BD90-CD1E-4A58-9746-09C0DF14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603A-FE92-4B2E-9716-808C877DC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05D92-3548-464F-BCE9-27F1CF109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BF02-BF8F-48A5-95FB-8306C14A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C2FC7-B13B-416A-A2E1-0EC71FFA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A38A-109D-4365-B2BC-89E1E57F6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C3AE3-788F-472C-BCEF-78320C0E2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71C6-A5A8-4CB5-9DEC-1D77AFE8B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rot="533400">
            <a:off x="-612720" y="1844280"/>
            <a:ext cx="9144000" cy="2637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ur egungo etorkin latinoamerikarr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GATIAK</a:t>
            </a:r>
            <a:endParaRPr b="0" lang="en-US" sz="4400" spc="-1" strike="noStrike">
              <a:solidFill>
                <a:srgbClr val="000000"/>
              </a:solidFill>
              <a:latin typeface="Arial"/>
            </a:endParaRPr>
          </a:p>
        </p:txBody>
      </p:sp>
      <p:sp>
        <p:nvSpPr>
          <p:cNvPr id="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migranteak lana aurkitzeko asmotan etortzen dira.Alde batetik janaria eta lo egiteko leku baten bila. Baina gehien bat, beren familiei dirua bidaltzeko. Baina ez dira aberastasunaren bila etortzen. Badakite txarto pasatuko dutela, paperak ez dutela izango eta ezin izango dute kalera atera leku publikoetara joan polizia identifikatu eta espulsatu ahal dietelak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AK</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2000" spc="-1" strike="noStrike">
                <a:solidFill>
                  <a:srgbClr val="000000"/>
                </a:solidFill>
                <a:latin typeface="Arial"/>
              </a:rPr>
              <a:t>Imigrante gehienak Espainiara etortzen dira lana bilatzeko. Kamarero bezala edo nagusiak zaintzen lan egiten dute. Inmigrante batzuk bere herrietan medikuak edo lan inportante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painan lan egiten duten inmigrante gehienengoak, gizonak dira. Gutxiengoak, ordea, emakumeak di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painiako lanetako nagusiak paperik gabeko inmigranteak nahiago dute lanean eukiteko. Seguritate Soziala ordain behar ez dietelako eta nahi dutenean lanetik bota ahal dutelako kontraturik gabe daudelak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ITURAK</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uatemalan Gabon Gaba gau berezi bat da. Guatemalarrek familiarekin biltzen dira. Afaldu baino lehen otoitz egiten dute, kanpoan suziriak entzuten diren bitartean. Opariak zabaltzen direnean danak abesten eta dantzatzen hasten dira, familiarekin gozatuz.</a:t>
            </a:r>
            <a:br>
              <a:rPr sz="2000"/>
            </a:br>
            <a:r>
              <a:rPr b="1" lang="es-ES" sz="2000" spc="-1" strike="noStrike">
                <a:solidFill>
                  <a:srgbClr val="000000"/>
                </a:solidFill>
                <a:latin typeface="Arial"/>
              </a:rPr>
              <a:t>Afariko janaria bertako tradizionala da, baina eskualdeen arabera alda daitezke. Tipikoena tamal izeneko janaria eta ponchea artesa da.Tamalak txerrikiarekin eta tomate saltsarekin betetzen dira gehienetan. Ponchea, ordea, fruitu lehorrak, pasak, okaranak, datilak, azukrea eta likore apur bat darama.</a:t>
            </a:r>
            <a:br>
              <a:rPr sz="2000"/>
            </a:br>
            <a:r>
              <a:rPr b="1" lang="es-ES" sz="2000" spc="-1" strike="noStrike">
                <a:solidFill>
                  <a:srgbClr val="000000"/>
                </a:solidFill>
                <a:latin typeface="Arial"/>
              </a:rPr>
              <a:t>Cubako Gabonetako ohiturak bi urtetan, soilik, kontserbatu ziren 1959ko Erreboluzioaren ondoren. Gabonetako usadio guztiak galdu ziren sistema marxista  boterean egon zenean. Ondorengo belaunanldiek aiton-amonei galdetu behar diete Gabonei buruz, haiek ez baitute tradizio hau bizi.</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ONO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LA HARTZEN DITUGU</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Espainiako im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Arial"/>
              </a:rPr>
              <a:t>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DORIOA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arrantzitsua da azpimarratzea inmigrazioa lehen bezala orain ere oso onuragarria izan del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painiarentzat. Demografikoki, biztanleriaren urteko %1,5eko hazkundeak %1,2 zor die inmigrante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zken hamarkadan, BPGren hazkundearen %30 ere inmigranteen lanean dago oinarrituta. Eta langi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ek Gizarte Segurantzari guztira egindako  ekarpena 8.000 milioi eurokoa izan da 2006a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ndorioa oso argia da: Espainiak bere ongizatea neurri handian inmigrazioari zor di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Ondorio onuragarri horiek alde kaltegarria ere izan lezakete, baldin eta ez bagara gauz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migrante berrien sarrera kontrolatzeko eta arrazionalizatzeko, eta hemen bizi direnen integrazio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obetzeko. Espainiaren harrera ahalmena, munduko beste herrialde guztiena bezala, ez bait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ugagabea. Eta hori ahaztu gabe Espainiak, bere kokapen geografikoagatik eta Latinoamerikarekin ditu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turengatik, hurrengo urteetan ere hainbat inmigrazio presio jasango dituen herrialdea izaten jarraituk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ue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18T06:38:07Z</dcterms:modified>
  <cp:revision>6</cp:revision>
  <dc:subject/>
  <dc:title>Diapositiva 1</dc:title>
</cp:coreProperties>
</file>